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90E-4BE8-4952-AD17-3E69D213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843-CC8C-4D08-80E5-75592A07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D7EC7-E459-4869-BA49-9B4F2CD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3BDE-2331-4AFA-B248-5033CFA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0C17B-7A97-4FFC-A05D-8EDDC53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10E00-0E51-451B-ABFE-ABBEFC6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C5F4-13B9-45A1-8625-8200726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14DAA-C18F-44D0-B9B4-191FBBE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FA423-7648-448C-9CA2-0248453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9DA8-2F0A-4F98-9376-E1A1B2E5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D9ABB-E3FE-48B4-B942-AD785B27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659-7D64-4FED-9786-5160817E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73A-35B4-4380-9360-4ED34A9B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B8B3-A39F-4DD2-81ED-D7073822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417-4A93-4E43-9B8E-A03817C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36C-B64B-47D3-9987-F852529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E07F-9932-4ABC-A20E-B74D27AD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EA3-852C-4614-821E-B3EE7C7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049E-6EC5-42D7-A756-FCC211B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378-59A1-481B-8A39-19502B3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E2D-F6DA-4144-BB20-061D996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C565-AA95-4087-9E4A-F414411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7D61-C4C7-4760-9453-06FD32A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86C-8D2D-463B-96A8-7CC320AC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B4C7-0B21-490C-AA57-78C9FFA5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4896-DE96-4963-8C31-88F6349D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6BBFE-41F3-47E9-AF91-EF8EF18E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AB29F-CBC1-4987-950F-2E01F42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2CC05-52BF-4209-9864-51732CD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D84A0-C155-4AF0-BDCD-2AB755B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83E14-0DED-47AD-B642-77D417D7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223-92ED-4CD0-B658-2F3B13E9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CBF7E-36E4-4528-977A-1F38D05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46151-C5FD-4D61-A77E-E7EC34F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17BCD-D640-4F4D-8C8A-288F637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14AD5-7AF7-4A03-8716-0568370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E1CC4-93DD-48EB-96D7-380862A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DA1CD-EAC4-484B-869F-2BEE3D9C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F4468-49ED-4C89-8F57-C15753AF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1BC0-F2A8-43A6-AD6D-8B4B61F2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C4C6-7B8F-4854-9977-80DCFB0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F7E1-D2B0-46BE-B9B0-E0D5184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1D8-95F9-4F2D-A4F8-6D85E05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8D6D-49AB-4A87-B7D7-DFE2F9B8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C8EC-AC68-4811-A838-6F7D1F44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5B95-2A35-477D-9E2B-A67039B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B4A4-576E-4FC4-9874-A6EA20FC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187A-3EF8-40BC-8096-ADF6158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FF42-EC17-4CC3-ADD4-52BBCDF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3DB5-7110-47C1-923E-89CFAC0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77A7-73C9-4C34-82B5-4C98E824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223D-88E8-40CC-AFC7-7A659438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C1B4-5C78-474F-BE71-4A9C7ADE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34-DD79-46FA-AB42-545904B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2C4A-7D51-485C-884B-C4C338F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F388-7EA1-41CA-B6F4-C9B3214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BFA2-4350-4769-BB32-8693527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6622-4CD7-4675-9B8D-D0081346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C888-5C6A-47BD-BCD9-86D2E26B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4769-1769-4DA6-8CD0-EA7006C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4A67-0DE5-425D-A820-FE7BDEC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5D26-3772-471F-A259-4D518BC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76A4-EF6B-4453-8023-8637C309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8F61-93B5-420F-AB41-05C5487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221-97DA-477F-9B2D-A490BB1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3324-8BA0-49BB-B031-1D166C21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6015-E6ED-4BC1-844E-E55DA2D5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E516E-B0FD-4F8F-B854-051A40F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AA7A-2D38-444D-A96A-A99F1B2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E3476-5B7C-4399-B5F3-8961815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7997-035B-4273-8C4C-D6CAE4C1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7465-7332-4404-BAE5-D401B43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89C45-5303-4774-8DC0-3D8A0D1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7C37-3E66-4AD7-AD65-DAD9ADD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FA8A-1F70-4BEF-8959-3FF1C76F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243-6528-437A-AF14-585FA2A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1702-1696-45B3-8EE5-B8B69669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8CA5-F7A3-46F5-B6C7-E200EB95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DE13-61CD-477E-86B6-A9F6DBC8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BAB8-6D45-483C-BEE8-3C768B3E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815C-1DED-4111-91A4-C44AC01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D37A-A34F-466A-A679-F25EEA9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EEB83-7E00-410D-9C9E-DD651F8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4E4D-0CAB-4096-98BD-E03C870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78E27-C952-4109-BE9D-2074539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9D58-1E93-448E-8776-DB378B1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E76-8421-4791-AE9B-7AAD8D0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640A-01EF-4E86-802B-A6C58F36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0748-F391-41CB-9738-FDC1223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228F-6842-4B23-9A62-848A6DB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3C612-725F-4EC8-949E-2D983220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8FD8-7AC2-4F95-8B6D-64982C17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9E61-EA53-4BA3-AFDE-BAFBDB73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47A94-D0A5-4510-9A3C-0EE9237F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907E-C1BA-4E7F-B85A-88C026CC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4CBE6-AD45-4B34-BEC1-76D725E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C703-4FE8-42F7-8E8F-C58FE6BD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55D-F554-433E-B05A-F861EE8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91D1-848D-40C7-B45A-0A92377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12C6-2A19-4BC1-9793-6840E01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5650-A11B-48BC-B422-267FFB9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B9E9-0198-49F7-AA52-B5802117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0135-4078-4225-A6C0-704DF13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EFCC-7F8A-4F64-8381-FE6A0DE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136B3-ADBA-4993-BCCA-2BCE58A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1AA95-C0C2-413A-8117-BF31C5EA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4A59-EF8E-4131-B1E6-62045E1B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1073-A442-42F0-BCFB-121490D9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411-0A83-4C71-8C45-1CD952B22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259-053A-47D6-8F92-8AAD1C2123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56F-844E-4EF6-9472-1E3076AAF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9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449D-45B3-4EBE-86AD-55C2D22924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6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EE44-3AF3-40E6-900E-98780CA52B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3524-823A-4AAD-A1BD-3FA742602D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AE4-3726-48E4-BDB2-5871CC7C51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F5E-072E-4997-8140-CC9C4F47C0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6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8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A61-8487-40D5-B88F-03FA78E04B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13" descr="bc2030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1660680" y="1484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57200" y="914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оэффективный дом. Биоисточник энер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3c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cc"/>
                </a:solidFill>
                <a:latin typeface="Corbel"/>
              </a:rPr>
              <a:t>Спасибо за внимание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ел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мочь людям сэкономить энергию через новый биоисточник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дач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  Разработать прибор для получения дешевой дополнительной энергии с минимальными затратами. Способствовать очищению эколог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10396710ca6c61a9f440f5e23dd346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Без чего не может существовать человечество? Что произойдет со всеми нами, когда через 5 млрд. лет не станет Солнца? Гибель всех живых существ – это еще минимум. Слово «свет» мы олицетворяем со словом «жизнь». И, естественно, люди всех времен и народов ищут пути и возможности получения новых источников световой энерг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едь это здорово, что благодаря лишь взаимодействию между органическими веществами, морской водой с участием бактерий в придонном слое морей и океанов образуется так называемое естественное электричество. В новых источниках энергии могут быть использованы явления разложения окисления органических веществ, приводящие к выработке электроэнергии. Известно, что в придонном слое океана образуется электричество, там как бы имеется гигантский топливный элемент. Состав морской воды довольно сложный и включает в себя около 70 химических элементов, которые непрерывно взаимодействуют друг с другом. В результате этого происходят многочисленные реакции окисления, и при взаимодействии с кислородом выделяется энергия, которою можно использовать для получения электрического тока. Происходит превращение химической энергии в электрическую.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аблица расчетов по          биоисточнику энер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(*КОЕ – количество органических единиц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596960"/>
          <a:ext cx="7619760" cy="4880160"/>
        </p:xfrm>
        <a:graphic>
          <a:graphicData uri="http://schemas.openxmlformats.org/drawingml/2006/table">
            <a:tbl>
              <a:tblPr/>
              <a:tblGrid>
                <a:gridCol w="1523880"/>
                <a:gridCol w="2746440"/>
                <a:gridCol w="1674720"/>
                <a:gridCol w="167472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ченные ресур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емое напря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на потреб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 водорослей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1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0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г водорослей, 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г водорослей, 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4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м образом, от прибора можно питать минимум подсветку квартиры с применением твердотельных источников света. Особенно это удобно, если есть маленькие дети и необходим ночной уход. Бесспорное преимущество прибора в том, что затраты самые минимальны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бор экологически чист и плюс ко всему еще очищает окружающую среду. И в заключении, я хочу сказать словами Р. Фейнмана «Нам необыкновенно повезло, что мы живем в век, когда еще можно делать открыт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828800" y="600120"/>
            <a:ext cx="57913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) Дмитриева В.Ф.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[Текст]: учеб. пособие для школьников/ В.Ф. Дмитриева.- 3-е изд., стер. – М.: Aкадемия, 2007. – 58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) Павленко   Ю.Г.   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учеб. пособие для школьников/ Ю.Г. Павленко. -  4-е изд.,    стереотип. – М.: Академия, 2005. – 566,[1]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ерельман  Я.И.   Занимательная   физика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 Я.И. Перельман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Дрофа, 1994.-36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)  Алексеева М.Н.,  Физика – юным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М.Н.Алексеева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Просвещение, 1980.-40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)   Цифровые образовательные ресурсы. 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Работу выполнила: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-1371600" y="1603440"/>
            <a:ext cx="10223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Маликова</cp:lastModifiedBy>
  <dcterms:modified xsi:type="dcterms:W3CDTF">2024-05-17T07:59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